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jpeg" ContentType="image/jpeg"/>
  <Override PartName="/ppt/media/image5.jpeg" ContentType="image/jpeg"/>
  <Override PartName="/ppt/media/image11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12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D6E-C4DA-4402-A0FC-27C0C262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4E0-6D05-43BB-9F7D-A7C6DAFF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92B-E27D-46E8-BF53-9944D299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760-0E93-4723-9066-E650D8B3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C376-67BD-4816-AA8E-5C3AAB14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3B70-8E70-47C8-BC0F-16288231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A9C8-6B8E-4821-974E-CDE2B2CB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79CF-D5C1-4A3D-A822-8AD957B6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0CF3-01E8-4F9D-BFEE-A6C0BED9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358B-DF31-442F-80BA-7B0552C9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14C5-46BB-45EB-81E6-53589908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68A-0759-4013-A318-53E82ACA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60D7-E565-4BDC-A2E3-13AA547D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042D-755A-4808-B676-3E79F24B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4D00-29A7-4526-B7F1-5AA5245C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4D5D-43D6-4FC3-AA1A-D92264AC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AD44-B245-4416-AA1C-85857E12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DA1-F648-42A5-8FDB-4CDAF612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11B-E3CD-4E93-8584-296E01C9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B895-FC66-4312-8F2F-B6A21331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201-5DA5-4018-A39E-8863E086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A93-ABAF-482D-BDA6-CA954315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2F5-9691-4D3C-91B0-20D26246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923-6834-4B3E-BCA2-A8CF1A6C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F1CC-5286-4073-B21F-C417BDBC10FF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AB2B-B699-43DC-8B88-60F3EC3C355E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hyperlink" Target="http://www.animatedscience.com.au/learningmodules/collision.swf" TargetMode="External"/><Relationship Id="rId4" Type="http://schemas.openxmlformats.org/officeDocument/2006/relationships/hyperlink" Target="http://www.animatedscience.com.au/learningmodules/collision.swf" TargetMode="Externa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Bradley Hand ITC"/>
              </a:rPr>
              <a:t>Rates of Reaction</a:t>
            </a:r>
            <a:endParaRPr b="0" lang="en-US" sz="5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Bradley Hand ITC"/>
              </a:rPr>
              <a:t>Adrian, Fraser, Roderick, Emm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Bradley Hand ITC"/>
              </a:rPr>
              <a:t>Temperature: Actual Affects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8920" y="1557360"/>
            <a:ext cx="74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en the temperature of a substance rises, the particles gain energ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more energy, the particles move fas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then collide with the other substance at an increased ra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ss time for the reaction to occu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22748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Sources of Error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5077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ed values could be 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ct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to tell the tablet had completely dissolv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04000" y="3789360"/>
            <a:ext cx="156996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804000" y="2060640"/>
            <a:ext cx="157788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4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Modifications for the Future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360" y="2060640"/>
            <a:ext cx="3781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more accurate result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duct the 3 trials at o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d more temperatures to tes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00720" y="4076640"/>
            <a:ext cx="2425680" cy="254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32720" y="1557360"/>
            <a:ext cx="141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Temperature: Conclusion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76160"/>
            <a:ext cx="784872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mperature directly affects the rate of reac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mperature =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particle movement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ticle movement =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lli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lision =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ate of rea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pposite occurs for a decrease in tempera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278136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fd293"/>
                </a:solidFill>
                <a:latin typeface="Bradley Hand ITC"/>
              </a:rPr>
              <a:t>CONCENTRATION</a:t>
            </a:r>
            <a:endParaRPr b="0" lang="en-US" sz="72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Concentration Experi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971800" y="1371600"/>
          <a:ext cx="3971880" cy="3952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371600"/>
                    <a:ext cx="397188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920" y="5486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rticle Collision theory: explains how reactions occur, and why there are different rates of reactions based on differences of characteristic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Concentration Experiment</a:t>
            </a:r>
            <a:br>
              <a:rPr sz="4800"/>
            </a:b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Concentration: the amount of a given solute in a solution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Concentration = number of moles / Volume of solution (L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Unit = mol / L or 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Can also be calculated in Volume / Volume percentage. (Volume of solute / Volume of Solution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Procedur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4479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Part A: </a:t>
            </a:r>
            <a:br>
              <a:rPr sz="2800"/>
            </a:br>
            <a:r>
              <a:rPr b="1" lang="en-CA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1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ablespoon of baking sod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in beaker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2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M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ix together 10 mL of vinegar with 5 drops of water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3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our the vinegar/water mixture into baking soda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4) Observe and record 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Procedur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4479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Part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: </a:t>
            </a:r>
            <a:br>
              <a:rPr sz="2800"/>
            </a:br>
            <a:r>
              <a:rPr b="1" lang="en-CA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lace a tablespoon of baking sod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in beaker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2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M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ix together 5 mL of water with 5mL of vinegar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3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our the vinegar/water mixture into baking soda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4) Observe and record 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94920" y="14479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Part C: </a:t>
            </a:r>
            <a:br>
              <a:rPr sz="2800"/>
            </a:br>
            <a:r>
              <a:rPr b="1" lang="en-CA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1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lace a tablespoon of baking sod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in beaker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2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M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ix together 10 mL of water and 5 drops of vinegar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3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our the vinegar/water mixture into the  baking soda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4) Observe and recor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Procedur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Introduction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8560" y="191628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f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1) Re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Indications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2) Rate of Re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fluencing factors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Concentration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Temperatur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Cataly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Observa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reaction that took place was seen like the one shown belo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Bradley Hand ITC"/>
              </a:rPr>
              <a:t>Observa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66680" y="1219320"/>
            <a:ext cx="7696080" cy="5486400"/>
            <a:chOff x="1066680" y="1219320"/>
            <a:chExt cx="7696080" cy="5486400"/>
          </a:xfrm>
        </p:grpSpPr>
        <p:grpSp>
          <p:nvGrpSpPr>
            <p:cNvPr id="136" name=""/>
            <p:cNvGrpSpPr/>
            <p:nvPr/>
          </p:nvGrpSpPr>
          <p:grpSpPr>
            <a:xfrm>
              <a:off x="1070640" y="1221840"/>
              <a:ext cx="7687800" cy="5481000"/>
              <a:chOff x="1070640" y="1221840"/>
              <a:chExt cx="7687800" cy="548100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070640" y="1221840"/>
                <a:ext cx="2048400" cy="1255320"/>
                <a:chOff x="1070640" y="1221840"/>
                <a:chExt cx="2048400" cy="12553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70640" y="1221840"/>
                  <a:ext cx="2048400" cy="12553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"/>
                <p:cNvGrpSpPr/>
                <p:nvPr/>
              </p:nvGrpSpPr>
              <p:grpSpPr>
                <a:xfrm>
                  <a:off x="1070640" y="1221840"/>
                  <a:ext cx="2048040" cy="1255320"/>
                  <a:chOff x="1070640" y="1221840"/>
                  <a:chExt cx="2048040" cy="12553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1155600" y="1221840"/>
                    <a:ext cx="1878120" cy="125532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inegar vs Wat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070640" y="1221840"/>
                    <a:ext cx="2048040" cy="12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"/>
              <p:cNvGrpSpPr/>
              <p:nvPr/>
            </p:nvGrpSpPr>
            <p:grpSpPr>
              <a:xfrm>
                <a:off x="3119400" y="1221840"/>
                <a:ext cx="1793520" cy="1255320"/>
                <a:chOff x="3119400" y="1221840"/>
                <a:chExt cx="1793520" cy="12553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119400" y="1221840"/>
                  <a:ext cx="1793520" cy="12553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3119400" y="1221840"/>
                  <a:ext cx="1793160" cy="1255320"/>
                  <a:chOff x="3119400" y="1221840"/>
                  <a:chExt cx="1793160" cy="12553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3204360" y="1221840"/>
                    <a:ext cx="1622880" cy="125532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olarity (mol/L)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119400" y="1221840"/>
                    <a:ext cx="1793160" cy="12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"/>
              <p:cNvGrpSpPr/>
              <p:nvPr/>
            </p:nvGrpSpPr>
            <p:grpSpPr>
              <a:xfrm>
                <a:off x="4913640" y="1221840"/>
                <a:ext cx="1922040" cy="1255320"/>
                <a:chOff x="4913640" y="1221840"/>
                <a:chExt cx="1922040" cy="1255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913640" y="1221840"/>
                  <a:ext cx="1922040" cy="12553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4913640" y="1221840"/>
                  <a:ext cx="1921680" cy="1255320"/>
                  <a:chOff x="4913640" y="1221840"/>
                  <a:chExt cx="1921680" cy="125532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998600" y="1221840"/>
                    <a:ext cx="1751760" cy="125532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ime (seconds)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913640" y="1221840"/>
                    <a:ext cx="1921680" cy="12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36040" y="1221840"/>
                <a:ext cx="1922400" cy="1255320"/>
                <a:chOff x="6836040" y="1221840"/>
                <a:chExt cx="1922400" cy="12553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6040" y="1221840"/>
                  <a:ext cx="1922400" cy="12553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6836040" y="1221840"/>
                  <a:ext cx="1922040" cy="1255320"/>
                  <a:chOff x="6836040" y="1221840"/>
                  <a:chExt cx="1922040" cy="125532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6921000" y="1221840"/>
                    <a:ext cx="1751760" cy="125532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Qualitative Observations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836040" y="1221840"/>
                    <a:ext cx="1922040" cy="12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" name=""/>
              <p:cNvGrpSpPr/>
              <p:nvPr/>
            </p:nvGrpSpPr>
            <p:grpSpPr>
              <a:xfrm>
                <a:off x="1070640" y="2477160"/>
                <a:ext cx="2048400" cy="1408320"/>
                <a:chOff x="1070640" y="2477160"/>
                <a:chExt cx="2048400" cy="14083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70640" y="2477160"/>
                  <a:ext cx="204840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1070640" y="2477160"/>
                  <a:ext cx="2048040" cy="1408320"/>
                  <a:chOff x="1070640" y="2477160"/>
                  <a:chExt cx="2048040" cy="140832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1155600" y="2477160"/>
                    <a:ext cx="187812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High Concentration 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200"/>
                    </a:b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 mL vinegar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 drops of wat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070640" y="2477160"/>
                    <a:ext cx="204804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3119400" y="2477160"/>
                <a:ext cx="1793520" cy="1408320"/>
                <a:chOff x="3119400" y="2477160"/>
                <a:chExt cx="1793520" cy="1408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119400" y="2477160"/>
                  <a:ext cx="179352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119400" y="2477160"/>
                  <a:ext cx="1793160" cy="1408320"/>
                  <a:chOff x="3119400" y="2477160"/>
                  <a:chExt cx="1793160" cy="140832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3204360" y="2477160"/>
                    <a:ext cx="162288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.853 M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119400" y="2477160"/>
                    <a:ext cx="179316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7" name=""/>
              <p:cNvGrpSpPr/>
              <p:nvPr/>
            </p:nvGrpSpPr>
            <p:grpSpPr>
              <a:xfrm>
                <a:off x="4913640" y="2477160"/>
                <a:ext cx="1922040" cy="1408320"/>
                <a:chOff x="4913640" y="2477160"/>
                <a:chExt cx="1922040" cy="14083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913640" y="2477160"/>
                  <a:ext cx="192204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4913640" y="2477160"/>
                  <a:ext cx="1921680" cy="1408320"/>
                  <a:chOff x="4913640" y="2477160"/>
                  <a:chExt cx="1921680" cy="140832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4998600" y="2477160"/>
                    <a:ext cx="175176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5.7</a:t>
                    </a:r>
                    <a:endParaRPr b="0" lang="en-US" sz="12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913640" y="2477160"/>
                    <a:ext cx="192168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6836040" y="2477160"/>
                <a:ext cx="1922400" cy="1408320"/>
                <a:chOff x="6836040" y="2477160"/>
                <a:chExt cx="1922400" cy="14083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836040" y="2477160"/>
                  <a:ext cx="192240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6836040" y="2477160"/>
                  <a:ext cx="1922040" cy="1408320"/>
                  <a:chOff x="6836040" y="2477160"/>
                  <a:chExt cx="1922040" cy="140832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921000" y="2477160"/>
                    <a:ext cx="175176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ubbles Formed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Fizzing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o baking soda leftov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836040" y="2477160"/>
                    <a:ext cx="192204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1070640" y="3885840"/>
                <a:ext cx="2048400" cy="1408320"/>
                <a:chOff x="1070640" y="3885840"/>
                <a:chExt cx="2048400" cy="14083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070640" y="3885840"/>
                  <a:ext cx="204840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1070640" y="3885840"/>
                  <a:ext cx="2048040" cy="1408320"/>
                  <a:chOff x="1070640" y="3885840"/>
                  <a:chExt cx="2048040" cy="140832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1155600" y="3885840"/>
                    <a:ext cx="187812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edium Concentration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 mL vinegar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 mL wat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070640" y="3885840"/>
                    <a:ext cx="204804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3119400" y="3885840"/>
                <a:ext cx="1793520" cy="1408320"/>
                <a:chOff x="3119400" y="3885840"/>
                <a:chExt cx="1793520" cy="14083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119400" y="3885840"/>
                  <a:ext cx="179352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3119400" y="3885840"/>
                  <a:ext cx="1793160" cy="1408320"/>
                  <a:chOff x="3119400" y="3885840"/>
                  <a:chExt cx="1793160" cy="140832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204360" y="3885840"/>
                    <a:ext cx="162288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.4375 M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119400" y="3885840"/>
                    <a:ext cx="179316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7" name=""/>
              <p:cNvGrpSpPr/>
              <p:nvPr/>
            </p:nvGrpSpPr>
            <p:grpSpPr>
              <a:xfrm>
                <a:off x="4913640" y="3885840"/>
                <a:ext cx="1922040" cy="1408320"/>
                <a:chOff x="4913640" y="3885840"/>
                <a:chExt cx="1922040" cy="14083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913640" y="3885840"/>
                  <a:ext cx="192204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"/>
                <p:cNvGrpSpPr/>
                <p:nvPr/>
              </p:nvGrpSpPr>
              <p:grpSpPr>
                <a:xfrm>
                  <a:off x="4913640" y="3885840"/>
                  <a:ext cx="1921680" cy="1408320"/>
                  <a:chOff x="4913640" y="3885840"/>
                  <a:chExt cx="1921680" cy="14083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4998600" y="3885840"/>
                    <a:ext cx="175176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20.95</a:t>
                    </a:r>
                    <a:endParaRPr b="0" lang="en-US" sz="12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913640" y="3885840"/>
                    <a:ext cx="192168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6836040" y="3885840"/>
                <a:ext cx="1922400" cy="1408320"/>
                <a:chOff x="6836040" y="3885840"/>
                <a:chExt cx="1922400" cy="1408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836040" y="3885840"/>
                  <a:ext cx="192240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6836040" y="3885840"/>
                  <a:ext cx="1922040" cy="1408320"/>
                  <a:chOff x="6836040" y="3885840"/>
                  <a:chExt cx="1922040" cy="14083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921000" y="3885840"/>
                    <a:ext cx="175176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ess bubbles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ess fizzing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ome baking soda leftov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836040" y="3885840"/>
                    <a:ext cx="192204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1070640" y="5294520"/>
                <a:ext cx="2048400" cy="1408320"/>
                <a:chOff x="1070640" y="5294520"/>
                <a:chExt cx="2048400" cy="14083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070640" y="5294520"/>
                  <a:ext cx="204840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1070640" y="5294520"/>
                  <a:ext cx="2048040" cy="1408320"/>
                  <a:chOff x="1070640" y="5294520"/>
                  <a:chExt cx="2048040" cy="14083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155600" y="5294520"/>
                    <a:ext cx="187812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ow Concentration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 drops of vinegar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 mL wat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070640" y="5294520"/>
                    <a:ext cx="204804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" name=""/>
              <p:cNvGrpSpPr/>
              <p:nvPr/>
            </p:nvGrpSpPr>
            <p:grpSpPr>
              <a:xfrm>
                <a:off x="3119400" y="5294520"/>
                <a:ext cx="1793520" cy="1408320"/>
                <a:chOff x="3119400" y="5294520"/>
                <a:chExt cx="1793520" cy="14083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119400" y="5294520"/>
                  <a:ext cx="179352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3119400" y="5294520"/>
                  <a:ext cx="1793160" cy="1408320"/>
                  <a:chOff x="3119400" y="5294520"/>
                  <a:chExt cx="1793160" cy="14083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204360" y="5294520"/>
                    <a:ext cx="162288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.0213 M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119400" y="5294520"/>
                    <a:ext cx="179316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" name=""/>
              <p:cNvGrpSpPr/>
              <p:nvPr/>
            </p:nvGrpSpPr>
            <p:grpSpPr>
              <a:xfrm>
                <a:off x="4913640" y="5294520"/>
                <a:ext cx="1922040" cy="1408320"/>
                <a:chOff x="4913640" y="5294520"/>
                <a:chExt cx="1922040" cy="14083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913640" y="5294520"/>
                  <a:ext cx="192204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4913640" y="5294520"/>
                  <a:ext cx="1921680" cy="1408320"/>
                  <a:chOff x="4913640" y="5294520"/>
                  <a:chExt cx="1921680" cy="14083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998600" y="5294520"/>
                    <a:ext cx="175176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23.66</a:t>
                    </a:r>
                    <a:endParaRPr b="0" lang="en-US" sz="12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913640" y="5294520"/>
                    <a:ext cx="192168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6836040" y="5294520"/>
                <a:ext cx="1922400" cy="1408320"/>
                <a:chOff x="6836040" y="5294520"/>
                <a:chExt cx="1922400" cy="14083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836040" y="5294520"/>
                  <a:ext cx="192240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6836040" y="5294520"/>
                  <a:ext cx="1922040" cy="1408320"/>
                  <a:chOff x="6836040" y="5294520"/>
                  <a:chExt cx="1922040" cy="140832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6921000" y="5294520"/>
                    <a:ext cx="175176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ven less bubbles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ven less fizzing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ore baking soda leftov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836040" y="5294520"/>
                    <a:ext cx="192204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7" name=""/>
            <p:cNvSpPr/>
            <p:nvPr/>
          </p:nvSpPr>
          <p:spPr>
            <a:xfrm>
              <a:off x="1066680" y="1219320"/>
              <a:ext cx="7696080" cy="54864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Sources of erro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ime recorded not exa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to see whether reaction comple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urities could have resulted in differences in rea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How concentration affects rate of reac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er concentration = more particles of reactants availa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re particles = higher frequenc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er frequency = faster rate of rea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centration is in direct relation to Rate of rea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191120" y="4267080"/>
          <a:ext cx="1601640" cy="214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267080"/>
                    <a:ext cx="16016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Concentration affecting rate of reac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6615000" cy="2205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71600" y="480060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imulation of Concentration affecting the rate of reaction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CA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www.animatedscience.com.au/learningmodules/collision.swf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Modifications to Experi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n all three tests at the sam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lows for better comparis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tri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ore tests were conducted = accurate tre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200400" y="4343400"/>
            <a:ext cx="27241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Conclus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centration in direct relation to Rate of rea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gher concentration allows more collis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wer concentration limits collis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Application of Concentra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eaning deterg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centrated soluble soaps such as laundry soap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733920" y="3200400"/>
            <a:ext cx="21272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24000" y="2708280"/>
            <a:ext cx="612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fd293"/>
                </a:solidFill>
                <a:latin typeface="Bradley Hand ITC"/>
              </a:rPr>
              <a:t>CATALYSTS</a:t>
            </a:r>
            <a:endParaRPr b="0" lang="en-US" sz="72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Experiment: Catalyst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cc"/>
                </a:solidFill>
                <a:latin typeface="Arial"/>
              </a:rPr>
              <a:t>Define Catalyst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changes the minimum energy needed for a reaction to occu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 not consumed by the re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708360" y="4149720"/>
            <a:ext cx="22096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4097160" cy="2197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Objective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Determine how concentration, temperature and catalysts affect the rate of rea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8196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Catalyst in Our Experiment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85560" y="164268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omposition of Hydrogen Peroxi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 H2O2 (aq) + MgO2 (s) → O2(g) + 2 H2O(l) + MgO2 (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ydrogen peroxide                 Manganese diox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1" name="Picture 5" descr="Manganese-dioxide-sample.jpg"/>
          <p:cNvPicPr/>
          <p:nvPr/>
        </p:nvPicPr>
        <p:blipFill>
          <a:blip r:embed="rId2"/>
          <a:stretch/>
        </p:blipFill>
        <p:spPr>
          <a:xfrm>
            <a:off x="5000760" y="3357720"/>
            <a:ext cx="2500200" cy="1874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180px-Hydrogen_peroxide.png"/>
          <p:cNvPicPr/>
          <p:nvPr/>
        </p:nvPicPr>
        <p:blipFill>
          <a:blip r:embed="rId3"/>
          <a:stretch/>
        </p:blipFill>
        <p:spPr>
          <a:xfrm>
            <a:off x="1714680" y="3357720"/>
            <a:ext cx="2000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Procedur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932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t 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ydrogen Peroxide in test tub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lace balloon on top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t 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ydrogen Peroxide and Manganese Dioxide in test tub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lace balloon on top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Picture 5" descr="Test_Tube.jpg"/>
          <p:cNvPicPr/>
          <p:nvPr/>
        </p:nvPicPr>
        <p:blipFill>
          <a:blip r:embed="rId2"/>
          <a:stretch/>
        </p:blipFill>
        <p:spPr>
          <a:xfrm>
            <a:off x="6072120" y="12859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53358.jpg"/>
          <p:cNvPicPr/>
          <p:nvPr/>
        </p:nvPicPr>
        <p:blipFill>
          <a:blip r:embed="rId3"/>
          <a:stretch/>
        </p:blipFill>
        <p:spPr>
          <a:xfrm>
            <a:off x="6516720" y="4292640"/>
            <a:ext cx="1843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Observa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85920" y="1500120"/>
          <a:ext cx="7162920" cy="4686480"/>
        </p:xfrm>
        <a:graphic>
          <a:graphicData uri="http://schemas.openxmlformats.org/drawingml/2006/table">
            <a:tbl>
              <a:tblPr/>
              <a:tblGrid>
                <a:gridCol w="1790640"/>
                <a:gridCol w="1352520"/>
                <a:gridCol w="1928880"/>
                <a:gridCol w="209088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Presence of catalyst 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Time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Inflation of balloon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General observations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6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No catalyst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(5 ml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Hydrogen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Peroxide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30 sec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None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Nothing happened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Catalyst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Manganese dioxide with 5 ml hydrogen peroxide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5 sec 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10 sec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3f15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Slight inflation of balloon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3f15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Production of heat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3f15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Balloon went upright, inflated slightly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3f15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Test tube got hot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Error and Modifica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58560" y="141300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gas could have escap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aminant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exact quantities us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size of inflation (diameter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1" name="Picture 5" descr="analy-digital.jpg"/>
          <p:cNvPicPr/>
          <p:nvPr/>
        </p:nvPicPr>
        <p:blipFill>
          <a:blip r:embed="rId2"/>
          <a:stretch/>
        </p:blipFill>
        <p:spPr>
          <a:xfrm>
            <a:off x="1857240" y="4643280"/>
            <a:ext cx="1498680" cy="1990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BF1RMKCARAK02XCAM7G5FTCA1VMZM7CA4MZ4IVCAUZCZE3CASX638TCAQ0AXRMCAIEXGS3CAJC07QQCA1PD9GPCAGN526LCATN88ZECASASNELCA2KVT37CA8Z742VCAFJBIYLCAS37XF7CA9I9LLPCAT825G8.jpg"/>
          <p:cNvPicPr/>
          <p:nvPr/>
        </p:nvPicPr>
        <p:blipFill>
          <a:blip r:embed="rId3"/>
          <a:stretch/>
        </p:blipFill>
        <p:spPr>
          <a:xfrm>
            <a:off x="4714920" y="5000760"/>
            <a:ext cx="178596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6" descr="RED_BALLO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1500"/>
                </a:solidFill>
                <a:latin typeface="Bradley Hand ITC"/>
              </a:rPr>
              <a:t>Conclus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f1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1500"/>
                </a:solidFill>
                <a:latin typeface="Arial"/>
              </a:rPr>
              <a:t>By itself, the decomposition of hydrogen peroxide into water and oxygen is slo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1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1500"/>
                </a:solidFill>
                <a:latin typeface="Arial"/>
              </a:rPr>
              <a:t>Manganese dioxide allows this decomposition to take place rapid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1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1500"/>
                </a:solidFill>
                <a:latin typeface="Arial"/>
              </a:rPr>
              <a:t>The oxygen produced inflated the balloon on the test tube</a:t>
            </a:r>
            <a:r>
              <a:rPr b="0" lang="en-US" sz="3200" spc="-1" strike="noStrike">
                <a:solidFill>
                  <a:srgbClr val="3f15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2 H2O2 (aq) + MgO2 (s) → O2(g) + 2 H2O(l) + MgO2 (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Applications of Catalys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4068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hemical Industry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more $$ if they make products fas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x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Manufacturers of Nitric Acid use catalyst: Platinu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Very expensive metal, but only need small quantity which can be reuse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stimate: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90% all commercially produced chemical products involve catalysts at some stage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2520" y="1676520"/>
            <a:ext cx="3505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ther: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Energy Processing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Bulk/Fine Chemical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Food Processing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9" name="" descr="16.gif"/>
          <p:cNvPicPr/>
          <p:nvPr/>
        </p:nvPicPr>
        <p:blipFill>
          <a:blip r:embed="rId2"/>
          <a:stretch/>
        </p:blipFill>
        <p:spPr>
          <a:xfrm>
            <a:off x="5508720" y="1557360"/>
            <a:ext cx="2133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Bradley Hand ITC"/>
              </a:rPr>
              <a:t>Rate of Reaction: </a:t>
            </a:r>
            <a:br>
              <a:rPr sz="4400"/>
            </a:br>
            <a:r>
              <a:rPr b="1" lang="en-US" sz="4400" spc="-1" strike="noStrike">
                <a:solidFill>
                  <a:srgbClr val="dfd293"/>
                </a:solidFill>
                <a:latin typeface="Bradley Hand ITC"/>
              </a:rPr>
              <a:t>Overall Conclus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572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cc"/>
                </a:solidFill>
                <a:latin typeface="Arial"/>
              </a:rPr>
              <a:t>It was shown form the three experiments that temperature, concentration and the presence of catalysts, affect the rate of reacti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cc"/>
                </a:solidFill>
                <a:latin typeface="Arial"/>
              </a:rPr>
              <a:t>Concentration and Temperatu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-the higher the concentration or temperature, the faster the reaction takes pl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cc"/>
                </a:solidFill>
                <a:latin typeface="Arial"/>
              </a:rPr>
              <a:t>Catalys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-the presence of positive catalysts, such as Manganese Dioxide, speeds the rate of</a:t>
            </a:r>
            <a:r>
              <a:rPr b="0" lang="en-CA" sz="2000" spc="-1" strike="noStrike">
                <a:solidFill>
                  <a:srgbClr val="7e2a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588000" y="1989000"/>
            <a:ext cx="2413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Further research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58560" y="2491920"/>
            <a:ext cx="46450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Conduct more experim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-Surface Are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-Pressu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-Negative catalys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-other facto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796000" y="1557360"/>
            <a:ext cx="2921040" cy="1901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508720" y="4005360"/>
            <a:ext cx="33843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11640" y="836640"/>
            <a:ext cx="4681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e2a00"/>
                </a:solidFill>
                <a:latin typeface="Bradley Hand ITC"/>
              </a:rPr>
              <a:t>Questions?</a:t>
            </a:r>
            <a:endParaRPr b="0" lang="en-US" sz="72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476360" y="1125360"/>
            <a:ext cx="712800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cc"/>
                </a:solidFill>
                <a:uFillTx/>
                <a:latin typeface="Arial"/>
              </a:rPr>
              <a:t>No Questions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erfect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ow we have some questions for you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042920" y="1341360"/>
          <a:ext cx="7885080" cy="5359320"/>
        </p:xfrm>
        <a:graphic>
          <a:graphicData uri="http://schemas.openxmlformats.org/drawingml/2006/table">
            <a:tbl>
              <a:tblPr/>
              <a:tblGrid>
                <a:gridCol w="1727280"/>
                <a:gridCol w="2430360"/>
                <a:gridCol w="2054160"/>
                <a:gridCol w="1673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riment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ls: Chemical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ls: Equipment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ls: Safety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e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Alka-Seltzer Tablet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, cold and room temperature water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5c1f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beaker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5c1f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ing cup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5c1f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ometer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5c1f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watch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Safety goggle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4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ratio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negar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king soda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beaker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pper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ing cup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ing spoon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watch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irring ro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Safety goggle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ganese Dioxid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gen Peroxid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test tube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balloon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watch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Safety goggle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Materials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8316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is the definition of a reactio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619280" y="1413000"/>
            <a:ext cx="8316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ummarize the temperature experiment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03280" y="2349360"/>
            <a:ext cx="75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hat is the reason behind the rate of reaction changing with Temperature and Concentration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47280" y="278136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is a catalyst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5640" y="2636640"/>
            <a:ext cx="78850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was the catalyst used in the decomposition of hydrogen peroxide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18920" y="2852640"/>
            <a:ext cx="716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ame 3 other factors that affect the rate of reaction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457200"/>
            <a:ext cx="813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 </a:t>
            </a: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This now concludes our Presenta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356000" y="6237360"/>
            <a:ext cx="468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y: Adrian, Emma, Fraser and Roderic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Safety Precautions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5977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Wear safety goggles at all tim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Long hair tied ba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Wash hands before and after each experi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Third Experiment: Cataly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Chemicals used are explosiv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No open flam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77080" y="422100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800360" cy="15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256536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fd293"/>
                </a:solidFill>
                <a:latin typeface="Bradley Hand ITC"/>
              </a:rPr>
              <a:t>TEMPERATURE</a:t>
            </a:r>
            <a:endParaRPr b="0" lang="en-US" sz="72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Experiment: Temperature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429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w does Temperature affect the rate of reaction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ka-Seltzer tablets in different temperatures of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331776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Temperature: Procedure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ce 250 mL of water into a beak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cord the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tly place the tablet into the beak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cord the time taken to dissol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peat for hot and cold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Temperature: Observations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32000" y="1557360"/>
          <a:ext cx="7561080" cy="4297320"/>
        </p:xfrm>
        <a:graphic>
          <a:graphicData uri="http://schemas.openxmlformats.org/drawingml/2006/table">
            <a:tbl>
              <a:tblPr/>
              <a:tblGrid>
                <a:gridCol w="2374920"/>
                <a:gridCol w="2160360"/>
                <a:gridCol w="302580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typ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act temp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o be dissolv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Observation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3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4 second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Large bubbl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Loud fizzing soun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m Temp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24 second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any bubbl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ofter fizzing soun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.52 second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mall bubbl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oft fizzing soun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1:37:31Z</dcterms:created>
  <dc:creator> Adrian</dc:creator>
  <dc:description/>
  <cp:keywords/>
  <dc:language>en-US</dc:language>
  <cp:lastModifiedBy>Beth Hennings</cp:lastModifiedBy>
  <dcterms:modified xsi:type="dcterms:W3CDTF">2008-12-17T04:18:01Z</dcterms:modified>
  <cp:revision>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774771033</vt:lpwstr>
  </property>
</Properties>
</file>